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6039-241F-4A0C-845E-96350E0AF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E8C2-3564-48D2-8F13-315D761B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BB18-CB20-42EA-A51C-4E56E56C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FB9E-34A1-4E11-8175-0E8BC80F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640-7FC5-496A-80C9-2348833AC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365B-F189-4699-B13F-1A4ACD93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D007-824F-407F-862E-0DB70150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2889-DDF0-4F99-9CAA-9BBBD2BD0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B6D4-27D4-4B6D-A0AA-FB3D32A27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CE00-D3D2-4C2A-B84B-299F78761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30F52-DBFD-4C0F-BA7B-DC75E368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1B51-48DE-4335-8A34-23056AC93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F216-8BF0-4C27-B5C6-BB9C1C1D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69E95-7E7C-4404-B1F1-08100016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F9B9-7D70-4C48-B805-9BEE451E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FDE3-AF01-454C-93BE-5EDC36B14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87EB-0CA6-4458-AA94-91CEA3E7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99B3-C342-4388-B760-CCB4D517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1866-4F85-4608-BFCD-AD8386AD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E25C-C127-4141-8952-3F3767CC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223A-B81A-45D0-8731-EC3EF8D5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5C6-C007-444D-803F-460BD273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8CF6-B396-4D92-AB84-B7183592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6DCC-EE70-4731-AFB7-9582F8F9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DFBD-5213-4C72-A8F4-2751F5747BF1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6AC9-17BC-40C0-8710-6C79550324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009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9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0"/>
                  </a:srgbClr>
                </a:gs>
                <a:gs pos="100000">
                  <a:srgbClr val="00007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1fa5"/>
                </a:gs>
                <a:gs pos="100000">
                  <a:srgbClr val="000099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R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1F5A-1C64-458A-8C0E-05ECC4455AD2}" type="datetime">
              <a:rPr b="0" lang="sr-Latn-RS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2DF07-78E7-4F6E-A166-B5A0AFBAF9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ebanatomy.net/anatomy/leginner.gif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hiro.org/chimages/b/dermatom.gif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1915920"/>
            <a:ext cx="8893080" cy="16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ccecff"/>
                </a:solidFill>
                <a:latin typeface="Arial Black"/>
              </a:rPr>
              <a:t>Senzibilitet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Senzitivni sindromi</a:t>
            </a:r>
            <a:br>
              <a:rPr sz="2800"/>
            </a:br>
            <a:r>
              <a:rPr b="0" lang="sr-Latn-RS" sz="2800" spc="-1" strike="noStrike">
                <a:solidFill>
                  <a:srgbClr val="ccecff"/>
                </a:solidFill>
                <a:latin typeface="Arial Black"/>
              </a:rPr>
              <a:t>Poremećaji hoda</a:t>
            </a:r>
            <a:r>
              <a:rPr b="0" lang="sr-CS" sz="2800" spc="-1" strike="noStrike">
                <a:solidFill>
                  <a:srgbClr val="ccecff"/>
                </a:solidFill>
                <a:latin typeface="Arial Black"/>
              </a:rPr>
              <a:t> 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4764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ccecff"/>
                </a:solidFill>
                <a:latin typeface="Arial"/>
              </a:rPr>
              <a:t>Dejan Aleks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Date Placeholder 1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BDC5-0320-4C7B-A061-FDFF41D671F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4253-CCDA-4667-8B8E-3F92A4FDD0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Potpu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fleksij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Delimični presek kičmene moždin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araplegija u ekstenz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6E8C-5312-4001-B9E9-9EB4319A506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7BF4-F267-47F4-9104-7C0DDF81BA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 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kvadri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- lezija iznad C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lize ruku i spastične paralize nog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u cervikalnoj intumescencij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spastičn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torakalnog dela KM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Sindrom mlitave paraplegi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- lezija lumbalnog dela i S1-S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8DF-0177-40E0-B3D1-34901024489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DA4C-4512-4181-9971-7DC35056159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Brown-Sequard-ov sindrom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(lezija jedne polovine kičmene moždi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duzetost piramidnog tipa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Anestezija u visini lezije, ipsilater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senzibilitet za bol i temperaturu ispod mesta lezije, kontralateral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Oštećen duboki senzibilitet ispod mesta lezije, ipsilatetal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BC48-746D-4E32-83EB-93398153601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CC7B-47A0-4566-B005-AEAEC73BC66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segmentne disocijacije senzibiliteta sa brahijalnom amiotrofijom –siringomijeličk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S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ringom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eli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j</a:t>
            </a:r>
            <a:r>
              <a:rPr b="1" lang="en-US" sz="2800" spc="-1" strike="noStrike">
                <a:solidFill>
                  <a:srgbClr val="3dccff"/>
                </a:solidFill>
                <a:latin typeface="YUDutchR"/>
              </a:rPr>
              <a:t>a</a:t>
            </a:r>
            <a:r>
              <a:rPr b="1" lang="sr-Latn-RS" sz="2800" spc="-1" strike="noStrike">
                <a:solidFill>
                  <a:srgbClr val="3dccff"/>
                </a:solidFill>
                <a:latin typeface="YUDutchR"/>
              </a:rPr>
              <a:t> -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najčešće donji deo cervikalne i gornji th regije,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 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od 30-45 godine, slabost i hipotrofija mišića ruku (šaka), ugašeni MR, </a:t>
            </a:r>
            <a:r>
              <a:rPr b="1" lang="sl-SI" sz="2400" spc="-1" strike="noStrike">
                <a:solidFill>
                  <a:srgbClr val="3dccff"/>
                </a:solidFill>
                <a:latin typeface="YUDutchR"/>
              </a:rPr>
              <a:t>oštećen senzibilitet za bol i temperaturu</a:t>
            </a: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, parapare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hemangioblast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pozne posledice povrede kičmene moždine (hemato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elija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80C2-0BB6-47C9-82BD-97458383BA6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D8F6-D553-4C2E-A874-D2FE89BAD8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spinalcord38"/>
          <p:cNvPicPr/>
          <p:nvPr/>
        </p:nvPicPr>
        <p:blipFill>
          <a:blip r:embed="rId1"/>
          <a:stretch/>
        </p:blipFill>
        <p:spPr>
          <a:xfrm>
            <a:off x="3048120" y="304920"/>
            <a:ext cx="3873240" cy="5857920"/>
          </a:xfrm>
          <a:prstGeom prst="rect">
            <a:avLst/>
          </a:prstGeom>
          <a:ln w="0">
            <a:noFill/>
          </a:ln>
        </p:spPr>
      </p:pic>
      <p:sp>
        <p:nvSpPr>
          <p:cNvPr id="15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7394-711C-45C9-9693-16E583125E7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B66A-EEBA-4402-882D-3AAD3C0B60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ccecff"/>
                </a:solidFill>
                <a:latin typeface="Arial Black"/>
              </a:rPr>
              <a:t>Siringobulbij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Šupljina u produženoj moždini (nekada i ponsu), obično je udružena sa siringomijelij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Klinička slika: nistagmus, analgezija i termoanestezija jedne polovine lica, atrofija i slabost polovine jezika, paraliza mekog nepca, dizartrija, disfagija, promuklo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ffff"/>
                </a:solidFill>
                <a:latin typeface="Arial"/>
              </a:rPr>
              <a:t>Terapija: dekompresija šupljine putem šanta koji povezuje sirinks sa subarahnoidnim prostorom ili peritoneum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8EDF-E05E-4E6D-A2CB-18812ADB2D4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B3F2-F7A0-49AA-A14E-7645A570BC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zadnjih funikul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zadnjih funikula (funikularna mijeloz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ubitak dubokog senzibiliteta (dodir, taktilna diskriminacija, duboki položajni, vibracioni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lavaboa, prsti koji sviraju klavir, Romberg sa zatvorenim oči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7D769-CFF5-41E7-BA4A-4D19DC17C22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469F-6DD0-4807-AF90-2D2E18EEDF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3dccff"/>
                </a:solidFill>
                <a:latin typeface="Arial Black"/>
              </a:rPr>
              <a:t>Tabes dorsalis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848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15-20 godina nakon primarne luetične infek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Gubitak neurona u dorzalnim ganglijama, degeneracija zadnjih funikulu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Klinička slika: Argayl-Robertsonova zenica, arefleksija, oštećenje proprioceptivnog senzibil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utonomna disfunk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Likvor: u 10-15% normalan, kod ostalih pleocitoza, hiperproteinorah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VD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Penicillin G, 18-24 mil.jed. i.v. 14 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ili erytromycin, tetracyclin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CE80-342A-40A8-8385-8D9CA612F47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DA4-5AB0-4F6B-93EC-7F606C4955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ccecff"/>
                </a:solidFill>
                <a:latin typeface="Arial Black"/>
              </a:rPr>
              <a:t>Funikularna mijeloza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4360" y="1125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Uzrok: </a:t>
            </a:r>
            <a:r>
              <a:rPr b="1" lang="sl-SI" sz="2400" spc="-1" strike="noStrike">
                <a:solidFill>
                  <a:srgbClr val="3dccff"/>
                </a:solidFill>
                <a:latin typeface="Arial"/>
              </a:rPr>
              <a:t>deficit B12 vitam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Hematološki: perniciozna anem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Neurološki: degeneracija zadnjih i bočnih kolumni kičmene moždine, povremeno mozga, perifernih nerava, n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pticusa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Ataksična kvadri- ili parapareza, MTR ugašeni, pozitivan Babinsk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štećen vibracijski i duboki položajni senzibilit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Dijagnoza: megaloblastna anemija (visok MCV), snižen B12 u krvi, antiparijetalna a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ozitiv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Arial"/>
              </a:rPr>
              <a:t>Terapija: B12 vit. 1000 gama dnevno, dve nedelje, potom 2 puta nedeljno godinu dana, jednom mesečno do kraja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3277-E348-4BE1-9C7B-2FD4E11B6BF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4CC2-D2F7-4273-9F46-C855ECB415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Ventralni (prednji) spinalni sindrom 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infarkt u teritoriji a</a:t>
            </a:r>
            <a:r>
              <a:rPr b="1" lang="sr-Latn-RS" sz="2800" spc="-1" strike="noStrike" u="sng">
                <a:solidFill>
                  <a:srgbClr val="ffffff"/>
                </a:solidFill>
                <a:uFillTx/>
                <a:latin typeface="YUDutchR"/>
              </a:rPr>
              <a:t>rt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. spinalis anteri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(motorne slabosti, više su zahvaćene ruke nego noge, distalne slabosti, spastična pareza ispod mesta lezij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      </a:t>
            </a:r>
            <a:r>
              <a:rPr b="1" lang="sl-SI" sz="2000" spc="-1" strike="noStrike">
                <a:solidFill>
                  <a:srgbClr val="ffffff"/>
                </a:solidFill>
                <a:latin typeface="YUDutchR"/>
              </a:rPr>
              <a:t>ispad senzibiliteta za bol i temperaturu, poremećaj kontrole sfinktera, impotencij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redj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YUDutchR"/>
              </a:rPr>
              <a:t>tumor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, il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Inflamatorni m</a:t>
            </a:r>
            <a:r>
              <a:rPr b="1" lang="sr-Latn-RS" sz="28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800" spc="-1" strike="noStrike">
                <a:solidFill>
                  <a:srgbClr val="ffffff"/>
                </a:solidFill>
                <a:latin typeface="YUDutchR"/>
              </a:rPr>
              <a:t>elitis prednje dve tre</a:t>
            </a:r>
            <a:r>
              <a:rPr b="1" lang="sl-SI" sz="2800" spc="-1" strike="noStrike">
                <a:solidFill>
                  <a:srgbClr val="ffffff"/>
                </a:solidFill>
                <a:latin typeface="YUDutchR"/>
              </a:rPr>
              <a:t>ćine vratne kičmene moždi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9239-72C3-42FC-8F04-169864B10DE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06D76-B767-43C8-B213-18C038BDFB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       </a:t>
            </a: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Podela senzibiliteta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ksteroceptivni</a:t>
            </a:r>
            <a:r>
              <a:rPr b="0" lang="sr-Latn-R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koža i sluznica-dodir, bol, temperatur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Proprioceptivni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(iz dubljih tkiva-pritisak, položaj, pokreti, vibracij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00"/>
                </a:solidFill>
                <a:latin typeface="Arial"/>
              </a:rPr>
              <a:t>Interoceptivni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 (visceralni) iz unutrašnjih org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C684-6CAF-491C-9E83-4187F3E6F440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FDA4-9863-4BC9-900F-BBA8A7A4A08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</a:t>
            </a:r>
            <a:r>
              <a:rPr b="0" lang="sl-SI" sz="2800" spc="-1" strike="noStrike">
                <a:solidFill>
                  <a:srgbClr val="3dccff"/>
                </a:solidFill>
                <a:latin typeface="YUDutchR"/>
              </a:rPr>
              <a:t>epiconus-a, </a:t>
            </a: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conus medularis-a i caudae equinae : </a:t>
            </a:r>
            <a:br>
              <a:rPr sz="2800"/>
            </a:b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Epiconus (L4-S2): ispad senzibiliteta u potkolenicama i perianalno, pareza dorzalne i plantarne fleksije stopala, snižen PR, ugašen AR, funkcija sfinktera očuv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Conus (S3-Co1), cauda equina (nervni korenovi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YUDutchR"/>
              </a:rPr>
              <a:t>Uzroci lezij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etastatski karcinomi u meningeama, korenovima ili pršljenovi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virusni ili demijelinizacioni m</a:t>
            </a:r>
            <a:r>
              <a:rPr b="1" lang="sr-Latn-RS" sz="2400" spc="-1" strike="noStrike">
                <a:solidFill>
                  <a:srgbClr val="ffffff"/>
                </a:solidFill>
                <a:latin typeface="YUDutchR"/>
              </a:rPr>
              <a:t>ij</a:t>
            </a: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el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A-V fist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miksopapilarni ependimo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 algn="just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YUDutchR"/>
              </a:rPr>
              <a:t>kongenital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2C02-E49C-4C6C-818B-FA37F70991D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D10B-92F4-47D8-BA3A-E19039361B0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ccff"/>
                </a:solidFill>
                <a:latin typeface="YUDutchR"/>
              </a:rPr>
              <a:t>Sindrom conus medularis-a i caudae equina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380988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onusa počinje naglo sa bilateralnom prezentacij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redak i blag u perineum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slabosti 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odsutne il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zna</a:t>
            </a:r>
            <a:r>
              <a:rPr b="1" lang="sl-SI" sz="2000" spc="-1" strike="noStrike">
                <a:solidFill>
                  <a:srgbClr val="ffffff"/>
                </a:solidFill>
                <a:latin typeface="Arial"/>
              </a:rPr>
              <a:t>tn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imetrične, retke fascikul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etrična disocijacija senzibiliteta, gubitak  za bol i temperaturne draži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 očuvan za dodir u perianogenitalnoj, sedlastoj distribuci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očuva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ontinentio urinae et alvi od samog početk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štećena muška seksualna funkc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549360"/>
            <a:ext cx="410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drom kaude ekvine počinje postepeno i jednostrano, a zatim asimetričn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ntani bol je jak, radikularni i asimetrič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šićne paralize su teške, asimetrične, fascikulacije uočlj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imetričan ispad površ</a:t>
            </a:r>
            <a:r>
              <a:rPr b="1" lang="sr-Latn-RS" sz="2000" spc="-1" strike="noStrike">
                <a:solidFill>
                  <a:srgbClr val="ffffff"/>
                </a:solidFill>
                <a:latin typeface="Arial"/>
              </a:rPr>
              <a:t>inskog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enzibiliteta sedlaste distribucije, bez disocijac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telarni i ahilovi refleksi mogu biti ugašen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funkcije sfinktera se javlja kasnije i u blažoj mer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emećaj muške seksualne funkcije blaže izraž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F75D-3534-43BA-B122-9C4EA55DF79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2A6C-5C90-48B6-B11D-AD7E12DC1F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spinalcord22"/>
          <p:cNvPicPr/>
          <p:nvPr/>
        </p:nvPicPr>
        <p:blipFill>
          <a:blip r:embed="rId1"/>
          <a:stretch/>
        </p:blipFill>
        <p:spPr>
          <a:xfrm>
            <a:off x="2014560" y="185760"/>
            <a:ext cx="5114880" cy="6486480"/>
          </a:xfrm>
          <a:prstGeom prst="rect">
            <a:avLst/>
          </a:prstGeom>
          <a:ln w="0">
            <a:noFill/>
          </a:ln>
        </p:spPr>
      </p:pic>
      <p:sp>
        <p:nvSpPr>
          <p:cNvPr id="18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8FFE-5347-46CA-8ED6-A51028076D8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BC2-9AAA-440A-8E11-D75B374F8C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2" descr="caudaequina"/>
          <p:cNvPicPr/>
          <p:nvPr/>
        </p:nvPicPr>
        <p:blipFill>
          <a:blip r:embed="rId1"/>
          <a:stretch/>
        </p:blipFill>
        <p:spPr>
          <a:xfrm>
            <a:off x="2438280" y="66600"/>
            <a:ext cx="4988160" cy="6791400"/>
          </a:xfrm>
          <a:prstGeom prst="rect">
            <a:avLst/>
          </a:prstGeom>
          <a:ln w="0">
            <a:noFill/>
          </a:ln>
        </p:spPr>
      </p:pic>
      <p:sp>
        <p:nvSpPr>
          <p:cNvPr id="18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EE07-AFAD-4D97-8DF4-5E39DEE9B6B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F41D-44CD-48AA-BD62-99B7ADFDD8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989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VII-</a:t>
            </a:r>
            <a:r>
              <a:rPr b="0" lang="en-US" sz="3200" spc="-1" strike="noStrike">
                <a:solidFill>
                  <a:srgbClr val="ccecff"/>
                </a:solidFill>
                <a:latin typeface="YUDutchR"/>
              </a:rPr>
              <a:t>Sindrom foramen occipitale magnum-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Uzrok: tumor, trauma, siringomijelia, multipla skleroza,Chiari, atlanto-aksijalna dislokacija (RA) i druge skeletne malform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Okcipitalni bol i bol u vratu sa širenjem u rame i ruku pri pokretima glave je početni simpt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Znaci su promenljivo izraženi: nistagmus (downbeat), hipestezija lica, dizartrija, disfonija i disfagija, spastična slabost ipsilateralne ruke pa noge,  zatim i kontralateralnih ekstremite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Retko postoje znaci lezije perifernog motornog neurona na rukama usled sekundarnih vaskularnih promena kičmene možd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DA3D-6C07-46B0-B937-D3D472B83A4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AB9-7BFF-4849-A901-D20A544A30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Netumorske lezije</a:t>
            </a: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trau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ondil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hernijacija i.v. disku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tenoza spinalnog kan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ektivne bolesti (absces, tuberkulom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inflamatorne bolesti (RA, Bechterew, Sarcoido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pinalne hemoragi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siringomijelij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kongenitalni poremećaj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arahnoidne cis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Paget-ova bole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osteoporoz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YUDutchR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F2A9-710E-4911-909B-1B072A89E5E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909DD-90E2-4B2B-89F4-0C1FD02B93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1320" y="291960"/>
            <a:ext cx="8235720" cy="13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Tumorske lezij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epidural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duralne-ekstramedularne (meningeom, 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urofibrom, leptomeningealne metasta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intramedular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6369-7D4A-43B5-97A1-1153FF25FBDF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1BC5-5A22-4BAF-880E-875A9DACDB1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5400" y="256680"/>
            <a:ext cx="785016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DIFERENCIJALNA DIJAGNOZA NEKOMPRESIVNIH MIJELOPATIJA</a:t>
            </a:r>
            <a:br>
              <a:rPr sz="3200"/>
            </a:b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96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demijelinizacione (MS, ADE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virusni mijelitisi (HZ, AIDS, HTLV-1, poliomijel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B12 deficijenci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infark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spirohetna infekcija (lues, Ly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toksične mijelopatije (radijacion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utoimune (SLE, Sjogr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paraneoplastič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neuronalne degeneracij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Arial"/>
              </a:rPr>
              <a:t>akutni i subakutni mijelitisi nepoznatog uzrok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3BD3-F39F-48B6-8997-8F2767EB132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CB15-B101-4E6C-9432-D58D76D787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Talamusni bol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štećenje  senzibiliteta za sve modalitete na kontralateralnoj stran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i 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alamusna hiperpatij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13097-6E54-4BED-8C0E-0CE78CDAE16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CEFD-32C4-48EF-9B69-ABA3CD5C7B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Sindrom oštećenja senzitivne kor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00"/>
                </a:solidFill>
                <a:latin typeface="Arial"/>
              </a:rPr>
              <a:t>Ispad senzibiliteta na kontralateralnoj strani polovini lica i t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Topognozija (odrediti mesto dodi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tereognozija (prepoznavanje predmeta opipavanje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Grafestezija (prepoznavanje ispisanih brojeva i slov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utotopagnozija (prepoznavanje delova tel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0509-EAB2-471A-A550-2BCA3D11379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BF15-B73A-4968-9B52-8950514980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Untitled-11"/>
          <p:cNvPicPr/>
          <p:nvPr/>
        </p:nvPicPr>
        <p:blipFill>
          <a:blip r:embed="rId1"/>
          <a:stretch/>
        </p:blipFill>
        <p:spPr>
          <a:xfrm>
            <a:off x="3851280" y="0"/>
            <a:ext cx="362124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3"/>
          <p:cNvSpPr/>
          <p:nvPr/>
        </p:nvSpPr>
        <p:spPr>
          <a:xfrm>
            <a:off x="394920" y="549360"/>
            <a:ext cx="328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Spinotalamički put (Eding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površins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Bol, temperatura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seksualne senzacij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3495-4E22-4C07-9A86-972D26C702D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B79B6-E889-4F7C-AB55-075AD5D752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70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ОСНОВИ НЕУРОЛОШКОГ ПРЕГЛЕДА</a:t>
            </a:r>
            <a:r>
              <a:rPr b="1" lang="sr-Latn-RS" sz="4000" spc="-1" strike="noStrike">
                <a:solidFill>
                  <a:srgbClr val="f8f8f8"/>
                </a:solidFill>
                <a:latin typeface="Arial Black"/>
              </a:rPr>
              <a:t> </a:t>
            </a:r>
            <a:r>
              <a:rPr b="1" lang="sr-RS" sz="4000" spc="-1" strike="noStrike">
                <a:solidFill>
                  <a:srgbClr val="f8f8f8"/>
                </a:solidFill>
                <a:latin typeface="Arial Black"/>
              </a:rPr>
              <a:t>ХОДА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91920"/>
            <a:ext cx="64008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2340000" y="2781360"/>
            <a:ext cx="4608360" cy="3066840"/>
          </a:xfrm>
          <a:prstGeom prst="rect">
            <a:avLst/>
          </a:prstGeom>
          <a:ln w="0">
            <a:noFill/>
          </a:ln>
        </p:spPr>
      </p:pic>
      <p:sp>
        <p:nvSpPr>
          <p:cNvPr id="218" name="Date Placeholder 4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4F00-9E5F-4C8B-9825-0EB472D6514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F252-F7B0-4DE4-9133-FD56DEAB531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представља сложену, високо координисану моторну радњу која захтева континуирану успешну интеграцију сензорних и моторних функ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Ход критично зависи од очуваности и нормалног функционисања ЦНС-а и ПНС-а, али захтева и компентетан мишићно-зглобни и кардиоваскуларни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У периоду од 7-9.деценије живота ход постаје несигуран и отежан, узроковано различитим узроцима: поремећај проприоцептивног сензибилитета услед недостатка витамина Б12; дегенеративне промене коштано-зглобног система; страх од пада код иначе здравих старијих особа – опрезан ход као по клизавој подлози, тзв.опрезни ход код старијих особ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23BA-C9AB-4929-938E-4B3DBD8FE596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0CAD-D1F2-4536-9A0D-CDB123A097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Да би испитали ход потребно је да обезбедимо довољно простора да болесник може слободно да хода,а  да смо у могућности да га у целости испратимо видом; уз ход посматрамо и коштане поремећаје: лордозу, кифозу, сколио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Константујемо да ли при ходу испитаник користи било какво помага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авило је да бар у једном делу процене посматрамо положај и ход болесника када он није свестан то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50D9-6FFC-49F2-9341-988A576E46C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A971-A483-4401-8B60-965B6964C1D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д пацијента тражимо да хода ритмом и брзином којом се уобичајено кре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Обраћамо пажњу на симетричност х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Важно је издвојити јасну асиметрију страна: хемипареза након можданог удара; хемипаркинсонизам; анталгич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Date Placeholder 3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C665-C94F-4292-8F35-EE4F9034014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E269-F31A-4B1D-870A-F2407A90D0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симетричан покушавамо да одредимо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а је дужина корака (нормална;</a:t>
            </a: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мала; неправилна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болесник хода на широкој основи или има маказаст ход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одиже стопала са подлоге или их вуче по њој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ав је положај трупа током ход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маше рукама у ходу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рекомерно одиже колен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Какви су положај и покретање карличног и раменог појас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dcc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ажњу усмеравамо на окретање или промену правца хода, обзиром да се они са тешкоћом врше код екстрапирамидних поремећаја и оштећења малог мозг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838080" y="6245280"/>
            <a:ext cx="330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5EDB-6F8C-4276-8C23-E2641B4976E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5E53-537D-4440-88DD-9962671138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Уколико је ход </a:t>
            </a:r>
            <a:r>
              <a:rPr b="0" lang="sr-RS" sz="2200" spc="-1" strike="noStrike">
                <a:solidFill>
                  <a:srgbClr val="ffff00"/>
                </a:solidFill>
                <a:latin typeface="Arial"/>
              </a:rPr>
              <a:t>асиметричан 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потребно је </a:t>
            </a:r>
            <a:r>
              <a:rPr b="1" lang="sr-RS" sz="2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 да сазнамо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је ход праћен болом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Да ли постоје деформитети коштано-зглобног систе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Тражимо да испитаник стоји и хода високо на прстима, а потом и на петам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ремећај хода који постепено настаје и дуго траје може да остане потпуно непримећен од стране болесника и породице; О поремећају сазнајемо индиректно: места на којима се обућа прво излизала, на основу контрактур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0418-7A3D-4FDC-934B-AE82F3E263F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B9E-024D-4142-B5B5-DD093F1053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Хемипаретичан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са хемипарезом држи полусавијену руку уз тело, док је истострана нога укочена и у екстенз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Екстендирана нога са стопалом у плантарној флексији је функционално „дужа“ од здраве ног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при ходу, на паретичној страни, подиже карлицу и са напором забацује паретичну ногу у страну и пут напред, при чему описује полулук (ход са циркумдукциј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3CC3-2675-41AD-B5A7-B71999ECFF6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CD600-6347-4554-B776-20A81954EA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5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495D-CA9D-4814-B7FB-1A26F1F62D4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D108-E5EB-4BF8-B6BD-FD0E202E64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3429000" y="1341360"/>
            <a:ext cx="228600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94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sr-RS" sz="2800" spc="-1" strike="noStrike">
                <a:solidFill>
                  <a:srgbClr val="ffffff"/>
                </a:solidFill>
                <a:latin typeface="Arial"/>
              </a:rPr>
              <a:t>Спастичко-парапаретички х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илатерално оштећење пирамидног пута; (дечја церебрална одузетост; комресија или траума кичмене мождине; МС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Отежано, уз напор, покреће укочене ноге, не савијајући их у коленима,, а због изражене адукције натколеница болесник се креће тако што једну укрућену ногу пребацује (укршта) испред друге (маказаст ход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Date Placeholder 3"/>
          <p:cNvSpPr/>
          <p:nvPr/>
        </p:nvSpPr>
        <p:spPr>
          <a:xfrm>
            <a:off x="838080" y="6245280"/>
            <a:ext cx="3086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F933-489B-4016-96A2-C55919848D6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D9E3-104B-4309-A0AE-BC5E9425CF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53" name="Content Placeholder 5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904000" cy="4535280"/>
          </a:xfrm>
          <a:prstGeom prst="rect">
            <a:avLst/>
          </a:prstGeom>
          <a:ln w="0">
            <a:noFill/>
          </a:ln>
        </p:spPr>
      </p:pic>
      <p:sp>
        <p:nvSpPr>
          <p:cNvPr id="254" name="Date Placeholder 2"/>
          <p:cNvSpPr/>
          <p:nvPr/>
        </p:nvSpPr>
        <p:spPr>
          <a:xfrm>
            <a:off x="838080" y="6245280"/>
            <a:ext cx="279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C03D-4FF0-4DAA-A99E-41E82D7A5738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F6268-C969-42DB-B37E-3004209F9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Untitled-12"/>
          <p:cNvPicPr/>
          <p:nvPr/>
        </p:nvPicPr>
        <p:blipFill>
          <a:blip r:embed="rId1"/>
          <a:stretch/>
        </p:blipFill>
        <p:spPr>
          <a:xfrm>
            <a:off x="4043520" y="0"/>
            <a:ext cx="3978000" cy="6908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400680" y="476280"/>
            <a:ext cx="364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Medijalni lemnisk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fasciculus cuneatus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fasciculus gracilli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Za duboki senzibilit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(vibracija, pasivni pokre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zglobna i diskriminacija dve tačk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65C52-2B8E-4FF0-A7BC-B4F55B2E086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E46A-865D-47C5-ACED-66BA760D78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Атаксичан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Најчешће се види код оштећења малог мозга и највише личи на ход пијаног човек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је на широкој основи, неуједначене дужине и правца корака, а болесник испољава нестабилност која је посебно упечатљива при окретању или промени правца кретања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Уколико је оштећена једна страна малог мозга-заноси се на ту страну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Сензорна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атаксија – сличан ход праћен жалбама да ходају као по јастуку или перју – код оштећења проприоцептивног сензибилитета (оштећење периферних нерава или дорзалних колумни кичмене мождине). Изразито погоршање у мраку или када затворе очи (спинална атакксија)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Ход неједнаким корацима и прво спуштају пету, а потом прсте на подлогу, чује се дупли звук додира стопала са подлогом (</a:t>
            </a:r>
            <a:r>
              <a:rPr b="0" lang="sr-RS" sz="1700" spc="-1" strike="noStrike">
                <a:solidFill>
                  <a:srgbClr val="ffff00"/>
                </a:solidFill>
                <a:latin typeface="Arial"/>
              </a:rPr>
              <a:t>талонирајући</a:t>
            </a: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 ход)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ffffff"/>
                </a:solidFill>
                <a:latin typeface="Arial"/>
              </a:rPr>
              <a:t>- Код исцрпљених и након дугог лежања-ход тетурав, несигуран, спор-није атаксичан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Date Placeholder 3"/>
          <p:cNvSpPr/>
          <p:nvPr/>
        </p:nvSpPr>
        <p:spPr>
          <a:xfrm>
            <a:off x="838080" y="6245280"/>
            <a:ext cx="2725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9065-419A-4B35-BAFA-4445D334705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BDD4-2471-41A6-9840-F78E968AF4D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61" name="Content Placeholder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3240000" cy="1784520"/>
          </a:xfrm>
          <a:prstGeom prst="rect">
            <a:avLst/>
          </a:prstGeom>
          <a:ln w="0">
            <a:noFill/>
          </a:ln>
        </p:spPr>
      </p:pic>
      <p:sp>
        <p:nvSpPr>
          <p:cNvPr id="262" name="Date Placeholder 2"/>
          <p:cNvSpPr/>
          <p:nvPr/>
        </p:nvSpPr>
        <p:spPr>
          <a:xfrm>
            <a:off x="838080" y="6245280"/>
            <a:ext cx="3157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DF3F-C282-4DC2-A70C-830EC88C082B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B416-8411-4B07-815F-0A0CE77A0D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2"/>
          <a:stretch/>
        </p:blipFill>
        <p:spPr>
          <a:xfrm>
            <a:off x="611280" y="3500280"/>
            <a:ext cx="3240000" cy="2737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"/>
          <p:cNvPicPr/>
          <p:nvPr/>
        </p:nvPicPr>
        <p:blipFill>
          <a:blip r:embed="rId3"/>
          <a:stretch/>
        </p:blipFill>
        <p:spPr>
          <a:xfrm>
            <a:off x="5076720" y="1628640"/>
            <a:ext cx="33829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аркинсон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Тело, руке и ноге болесника су полусавијени, а ход ситним корацима, које вуче по подлози, једва или уопште не одвајајући их од стопала („магнетни ход“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При ходу изостаји удружени покрети махања рукам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На почетку болести израженије на једној стра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Антеропулз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Фестин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- Оклевање-хезитациј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Date Placeholder 3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1008-31AE-4521-B430-C44BC38B9DDA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37F7-7F2F-4269-A96F-51E426839E8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1" name="Content Placeholder 8" descr=""/>
          <p:cNvPicPr/>
          <p:nvPr/>
        </p:nvPicPr>
        <p:blipFill>
          <a:blip r:embed="rId1"/>
          <a:stretch/>
        </p:blipFill>
        <p:spPr>
          <a:xfrm>
            <a:off x="944640" y="1600200"/>
            <a:ext cx="7254720" cy="4525920"/>
          </a:xfrm>
          <a:prstGeom prst="rect">
            <a:avLst/>
          </a:prstGeom>
          <a:ln w="0">
            <a:noFill/>
          </a:ln>
        </p:spPr>
      </p:pic>
      <p:sp>
        <p:nvSpPr>
          <p:cNvPr id="272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B96E3-FFFE-4F70-A435-73B6774C7F19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E52BE-9FFF-46C6-86F9-890989C8C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75" name="Content Placeholder 5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465440" cy="4753080"/>
          </a:xfrm>
          <a:prstGeom prst="rect">
            <a:avLst/>
          </a:prstGeom>
          <a:ln w="0">
            <a:noFill/>
          </a:ln>
        </p:spPr>
      </p:pic>
      <p:sp>
        <p:nvSpPr>
          <p:cNvPr id="276" name="Date Placeholder 2"/>
          <p:cNvSpPr/>
          <p:nvPr/>
        </p:nvSpPr>
        <p:spPr>
          <a:xfrm>
            <a:off x="826920" y="638172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2AE2-05A2-44B7-A5AA-0C88AABCB507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E450-C41A-4BA1-B408-EF146D6EC50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6" descr=""/>
          <p:cNvPicPr/>
          <p:nvPr/>
        </p:nvPicPr>
        <p:blipFill>
          <a:blip r:embed="rId2"/>
          <a:stretch/>
        </p:blipFill>
        <p:spPr>
          <a:xfrm>
            <a:off x="4859280" y="1628640"/>
            <a:ext cx="402588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Перонеални или петлов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Слабост претибијалних и перонеалних мишића (обострано код 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Charcot-M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rie-Toothove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ти или једнострано код једностране радикулопатије Л5 корена, мононуритис мултиплекса или код оштећења заједничког перонеалног нерва) јавља се пад стопала (висеће стопало) када болесник није у стању да изврши дорзалну флексиј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При ходу високо подиже и савија ногу у куку и колен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„Степовање“ –прво подлогу додирује палцем, а потом пет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F867A-5210-433D-A490-556777B843E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076B-97A1-4FF0-95D6-6A23FC378B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84" name="Content Placeholder 6" descr=""/>
          <p:cNvPicPr/>
          <p:nvPr/>
        </p:nvPicPr>
        <p:blipFill>
          <a:blip r:embed="rId1"/>
          <a:stretch/>
        </p:blipFill>
        <p:spPr>
          <a:xfrm>
            <a:off x="457200" y="2112840"/>
            <a:ext cx="8229600" cy="350064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838080" y="6245280"/>
            <a:ext cx="2654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BDE6-6766-47F1-9EB7-144FE1AC4F9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89138-3515-4CE9-806E-9ADA9F58DC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sr-RS" sz="2400" spc="-1" strike="noStrike">
                <a:solidFill>
                  <a:srgbClr val="ffffff"/>
                </a:solidFill>
                <a:latin typeface="Arial"/>
              </a:rPr>
              <a:t>Миопатски х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Миопатије које су праћене слабошћу проксималних мишића ногу и карличног појаса (мишићне дистрофије; метаболичке, запаљенске и ендокрине миопатије) карактеришу се гегајућим или паткастим хо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2000" spc="-1" strike="noStrike">
                <a:solidFill>
                  <a:srgbClr val="ffffff"/>
                </a:solidFill>
                <a:latin typeface="Arial"/>
              </a:rPr>
              <a:t>Болесник наизменично премешта тежину са једне на другу ногу, уз често изражену лордозу крсног преде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Date Placeholder 3"/>
          <p:cNvSpPr/>
          <p:nvPr/>
        </p:nvSpPr>
        <p:spPr>
          <a:xfrm>
            <a:off x="838080" y="6245280"/>
            <a:ext cx="3013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AC929-C86F-4938-B6A0-EB82A1DDABD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DBEF-7F3E-47AD-B48B-D696C11CED1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292" name="Content Placeholder 5" descr=""/>
          <p:cNvPicPr/>
          <p:nvPr/>
        </p:nvPicPr>
        <p:blipFill>
          <a:blip r:embed="rId1"/>
          <a:stretch/>
        </p:blipFill>
        <p:spPr>
          <a:xfrm>
            <a:off x="1886040" y="1849320"/>
            <a:ext cx="5371920" cy="4029120"/>
          </a:xfrm>
          <a:prstGeom prst="rect">
            <a:avLst/>
          </a:prstGeom>
          <a:ln w="0">
            <a:noFill/>
          </a:ln>
        </p:spPr>
      </p:pic>
      <p:sp>
        <p:nvSpPr>
          <p:cNvPr id="293" name="Date Placeholder 2"/>
          <p:cNvSpPr/>
          <p:nvPr/>
        </p:nvSpPr>
        <p:spPr>
          <a:xfrm>
            <a:off x="838080" y="6245280"/>
            <a:ext cx="2870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A0A06-E5B6-4588-A9CD-521FEA2D860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ED0A-E3C2-4E54-9A8B-C575666A6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Анталгичан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Последица бола услед нпр.лумбоишијалгије, ортопедских поремећаја у куку или колену и сл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Ослања се на здраву ногу, а штеди „болну“ ногу и само краткотрајно се ослања на врх стопала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0" lang="sr-RS" sz="2600" spc="-1" strike="noStrike">
                <a:solidFill>
                  <a:srgbClr val="ffffff"/>
                </a:solidFill>
                <a:latin typeface="Arial"/>
              </a:rPr>
              <a:t>Психогени ход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Функционални, неоргански, „фантастичан</a:t>
            </a:r>
            <a:r>
              <a:rPr b="0" lang="sr-RS" sz="22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9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sr-RS" sz="1900" spc="-1" strike="noStrike">
                <a:solidFill>
                  <a:srgbClr val="ffffff"/>
                </a:solidFill>
                <a:latin typeface="Arial"/>
              </a:rPr>
              <a:t>Не уклапа се ни у једну од познатих органских форми поремећеног хода, има бизарне карактеристике које се могу мењати из прегледа у преглед, не прате га повређивања, и обично се смањује или губи када болесник мисли да га нико не посматра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Date Placeholder 3"/>
          <p:cNvSpPr/>
          <p:nvPr/>
        </p:nvSpPr>
        <p:spPr>
          <a:xfrm>
            <a:off x="838080" y="6245280"/>
            <a:ext cx="43815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6E22-8E68-4869-8240-D943BAFB216D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E905-D9C1-407F-8627-8E56934F08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5" name="Date Placeholder 2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C649B-EF0F-4E83-8A8B-BF0EE777120C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79A7D-949E-495A-8E25-F70488364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075680" y="1773360"/>
            <a:ext cx="5287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Mogu biti posledica oštećenja na različitim nivoi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CNS-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o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tala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moždano stablo (kranijalni nerv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kičmena možd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PNS-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dorzalni nervni korenovi kičmene možd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sr-Latn-RS" sz="1800" spc="-1" strike="noStrike">
                <a:solidFill>
                  <a:srgbClr val="ffffff"/>
                </a:solidFill>
                <a:latin typeface="Arial"/>
              </a:rPr>
              <a:t>- periferni nerv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300" name="Content Placeholder 5" descr=""/>
          <p:cNvPicPr/>
          <p:nvPr/>
        </p:nvPicPr>
        <p:blipFill>
          <a:blip r:embed="rId1"/>
          <a:stretch/>
        </p:blipFill>
        <p:spPr>
          <a:xfrm>
            <a:off x="1946160" y="1600200"/>
            <a:ext cx="5251680" cy="4525920"/>
          </a:xfrm>
          <a:prstGeom prst="rect">
            <a:avLst/>
          </a:prstGeom>
          <a:ln w="0">
            <a:noFill/>
          </a:ln>
        </p:spPr>
      </p:pic>
      <p:sp>
        <p:nvSpPr>
          <p:cNvPr id="301" name="Date Placeholder 2"/>
          <p:cNvSpPr/>
          <p:nvPr/>
        </p:nvSpPr>
        <p:spPr>
          <a:xfrm>
            <a:off x="838080" y="6245280"/>
            <a:ext cx="2941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7879-CB44-4941-AC70-BD8F215DDC6E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A2BF-D4BB-43BC-900C-A8A6388744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8f8f8"/>
                </a:solidFill>
                <a:latin typeface="Arial Black"/>
              </a:rPr>
              <a:t>ХОД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ffffff"/>
                </a:solidFill>
                <a:latin typeface="Arial"/>
              </a:rPr>
              <a:t>Владимир С.Костић. Основи неуролошког прегледа, 2013. Београ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2D893-9BA0-486B-90DE-B77D0D5CC2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Date Placeholder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A8D2-41FE-401F-B22C-CADDF32BECA5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Senzitivni sindromi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3102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drom o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</a:t>
            </a: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ć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a perifernih nera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Arial"/>
              </a:rPr>
              <a:t>(ispad senzibilieta za sve modalitete u distribuciji oštećenog nerva -mononeuropatij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060640"/>
            <a:ext cx="2160360" cy="4176720"/>
          </a:xfrm>
          <a:prstGeom prst="rect">
            <a:avLst/>
          </a:prstGeom>
          <a:ln w="0">
            <a:noFill/>
          </a:ln>
        </p:spPr>
      </p:pic>
      <p:sp>
        <p:nvSpPr>
          <p:cNvPr id="12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1BD2-E040-4A40-B7CA-9AC8B24BD352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F377-6895-41A2-B6C7-1BA98C93964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8f8f8"/>
                </a:solidFill>
                <a:latin typeface="Arial Black"/>
              </a:rPr>
              <a:t>Polineuropatije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51260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ndrom  čarapa i rukav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imetročni, distalni ispad senzibiliteta za sve modalitete na rukama i nog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poliner"/>
          <p:cNvPicPr/>
          <p:nvPr/>
        </p:nvPicPr>
        <p:blipFill>
          <a:blip r:embed="rId1"/>
          <a:stretch/>
        </p:blipFill>
        <p:spPr>
          <a:xfrm>
            <a:off x="5651640" y="1484280"/>
            <a:ext cx="2592360" cy="454824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ABBAC-866C-48E3-BD86-8E9A3F2E9983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188C-4206-4060-A8DF-804E07363FA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Lezija dorzalnih korenova I gangliona  - dermatom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2965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truzije disku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Herpes zo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11" descr="Прикажи слику у пуној величини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27640" y="1989000"/>
            <a:ext cx="4392360" cy="4537080"/>
          </a:xfrm>
          <a:prstGeom prst="rect">
            <a:avLst/>
          </a:prstGeom>
          <a:ln w="0">
            <a:noFill/>
          </a:ln>
        </p:spPr>
      </p:pic>
      <p:sp>
        <p:nvSpPr>
          <p:cNvPr id="131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70AE-F725-4D1F-BF2B-5E15AD5F8E24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6CF5-1546-48EC-8876-8A13C382C3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8f8f8"/>
                </a:solidFill>
                <a:latin typeface="Arial Black"/>
              </a:rPr>
              <a:t>Sindromi oštećenja kičmene moždin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Naglo nastao presek kičmene moždi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 Faza (tzv. faza spinalnog šoka, oko 3-4 sedmice), ugašen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3300"/>
                </a:solidFill>
                <a:latin typeface="Arial"/>
              </a:rPr>
              <a:t>Ugašen senzibilitet za sve kvalitete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 od povređenog segmenta naniž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Atonija, ugašeni refleks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Retencija mokraće, bešika proširena, atonič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II Faza, uspostavljaju se funkcije kičmene moždin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Pojačani mišićni refleksi, povišen ton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U visini povrede paraliza perifernog tipa mišića inervisani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od tih segmen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Arial"/>
              </a:rPr>
              <a:t>Neurogena bešik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Date Placeholder 1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979B-FD19-4474-9ADB-17079ACEA011}" type="datetime">
              <a:rPr b="0" lang="sr-Latn-RS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lide Number Placeholder 2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1CA4-15D5-44BB-A0A3-8AD5BA5FAF2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6T22:41:28Z</dcterms:created>
  <dc:creator>Slobodan Apostolski</dc:creator>
  <dc:description/>
  <dc:language>en-US</dc:language>
  <cp:lastModifiedBy>Dejan Aleksic</cp:lastModifiedBy>
  <dcterms:modified xsi:type="dcterms:W3CDTF">2021-09-28T09:39:26Z</dcterms:modified>
  <cp:revision>130</cp:revision>
  <dc:subject/>
  <dc:title>Bolesti kičmene moždine</dc:title>
</cp:coreProperties>
</file>